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DA7-7609-4530-8589-1D7DAC40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356-6D96-41D2-8AD6-569D3DF8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65B-2759-4C70-AE3C-11EC46CE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AF4-8737-4D57-9C4B-3C80C27D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42D-FD8C-4A12-BF01-9AA996FD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266-E869-4077-8D83-DCB5DDE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C07-F956-4318-937D-910FCF5C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099-A19F-45F3-903A-EC0B27BE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01B-A4A4-4CE3-AE3E-6DBB2B84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5D7-5439-48C9-A8B1-2565C81C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F57-41BB-4D55-AFB7-72D2BD4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8A2-0C8C-4F3F-8C1D-A82EC93C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B2AE9-EC3D-41BF-BBDD-31D66252B2F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970C6-F2EB-49A2-AD75-37A057E731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blcoindex.htm" TargetMode="External"/><Relationship Id="rId2" Type="http://schemas.openxmlformats.org/officeDocument/2006/relationships/hyperlink" Target="http://www.factmonster.com/ipka/A0193167.html" TargetMode="External"/><Relationship Id="rId3" Type="http://schemas.openxmlformats.org/officeDocument/2006/relationships/hyperlink" Target="http://www.fourmilab.ch/babbage/" TargetMode="External"/><Relationship Id="rId4" Type="http://schemas.openxmlformats.org/officeDocument/2006/relationships/hyperlink" Target="http://www.columbia.edu/acis/history/hollerith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uters 10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Trav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computer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’s founder, Robert Noyce, chartered Ted Hoff’s Applications Research Department in 1969, to find new applications for silicon technolo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nary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t-A binary digit is called a bit. Usually expressed as 0 and 1 the two numbers of the binary numbering system. A bit is the smallest unit of information a computer can u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te-A group of 8 bits are in a byte. With 8 bits there exists 256 possible denary combinations. Large numbers of bytes can be expressed by kilobyte and megabyte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nventors.about.com/library/blcoindex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actmonster.com/ipka/A0193167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ourmilab.ch/babbage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olumbia.edu/acis/history/hollerith.html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seas.upenn.edu/about-seas/eniac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webopedia.com/TERM/P/program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experiencefestival.com/transistor_-_advantages_of_transistors_over_vacuum_tub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xnumber.com/xnumber/Microcomputer_invention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tutorials4u.com/c/ascii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Compu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ed by Konrad Zuse in 193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d Z1 compu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1878 Thomas Edison coined the term “bug” and “debugging” when working with his in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net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net began in 1969 by ARP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was designed for research, education, and government organiz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bbage’s Analytical Eng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mechanical digital computer which, viewed with the benefit of a century and a half's hindsight, anticipated virtually every aspect of present-day comput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ulating Machin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s invented for or their ability to count combined facts. These machines reduced a ten-year job to three mont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general-purpose electronic compu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t at The Moore School of Electrical Engineering, now part of the School of Engineering and Applied Sc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00246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organized list of instructions that, when executed causes the computer to behave in a predetermined man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nefits of using a Transistor over Vacuum Tub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c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possible operating vol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 without a warm up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8:18Z</dcterms:created>
  <dc:creator>jared gallier</dc:creator>
  <dc:description/>
  <dc:language>en-US</dc:language>
  <cp:lastModifiedBy>HJ</cp:lastModifiedBy>
  <dcterms:modified xsi:type="dcterms:W3CDTF">2010-09-02T15:02:40Z</dcterms:modified>
  <cp:revision>2</cp:revision>
  <dc:subject/>
  <dc:title>Computers 101</dc:title>
</cp:coreProperties>
</file>