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09E-0907-4DDB-A6CF-3ECD6DF0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5A6-2E61-47FC-9471-6EEAEA2F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0E2-3C22-4899-BD9E-0F77FCF9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D26-6959-4BF1-BC17-AFB06354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165-B540-429A-97E2-AC35EEAC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D42-7A7C-489F-B671-86EAA118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80A-8CF3-4D54-B351-2D0FE900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102-4A91-4D80-AA34-8FD4F2DB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76C-6586-4A83-994C-73CDA4E5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56E-FD63-4D02-BB3F-DBF0F346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8AE-0B32-41B8-B474-3DA5F499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E07-4EE0-4E35-A8B9-EF2BF9FB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66DFB-E372-4C30-9927-00DEAC567EED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AEFA4-78A4-4D5B-841A-FAC11F9925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blcoindex.htm" TargetMode="External"/><Relationship Id="rId2" Type="http://schemas.openxmlformats.org/officeDocument/2006/relationships/hyperlink" Target="http://www.factmonster.com/ipka/A0193167.html" TargetMode="External"/><Relationship Id="rId3" Type="http://schemas.openxmlformats.org/officeDocument/2006/relationships/hyperlink" Target="http://www.fourmilab.ch/babbage/" TargetMode="External"/><Relationship Id="rId4" Type="http://schemas.openxmlformats.org/officeDocument/2006/relationships/hyperlink" Target="http://www.columbia.edu/acis/history/hollerith.html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puters 10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Trav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crocomputer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l’s founder, Robert Noyce, chartered Ted Hoff’s Applications Research Department in 1969, to find new applications for silicon technolog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nary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t-A binary digit is called a bit. Usually expressed as 0 and 1 the two numbers of the binary numbering system. A bit is the smallest unit of information a computer can us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te-A group of 8 bits are in a byte. With 8 bits there exists 256 possible denary combinations. Large numbers of bytes can be expressed by kilobyte and megabyte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9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nventors.about.com/library/blcoindex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actmonster.com/ipka/A0193167.htm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ourmilab.ch/babbage/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columbia.edu/acis/history/hollerith.html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seas.upenn.edu/about-seas/eniac/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webopedia.com/TERM/P/program.htm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experiencefestival.com/transistor_-_advantages_of_transistors_over_vacuum_tube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xnumber.com/xnumber/Microcomputer_invention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tutorials4u.com/c/ascii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Compu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nted by Konrad Zuse in 193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d Z1 compu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a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bug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1878 Thomas Edison coined the term “bug” and “debugging” when working with his inven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net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ternet began in 1969 by ARP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was designed for research, education, and government organiz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bbage’s Analytical Eng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mechanical digital computer which, viewed with the benefit of a century and a half's hindsight, anticipated virtually every aspect of present-day comput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ulating Machin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as invented for or their ability to count combined facts. These machines reduced a ten-year job to three month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IA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general-purpose electronic compu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ilt at The Moore School of Electrical Engineering, now part of the School of Engineering and Applied Scien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00246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organized list of instructions that, when executed causes the computer to behave in a predetermined mann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enefits of using a Transistor over Vacuum Tub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er si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c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possible operating vol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ration without a warm up peri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38:18Z</dcterms:created>
  <dc:creator>jared gallier</dc:creator>
  <dc:description/>
  <dc:language>en-US</dc:language>
  <cp:lastModifiedBy>HJ</cp:lastModifiedBy>
  <dcterms:modified xsi:type="dcterms:W3CDTF">2010-09-02T15:02:40Z</dcterms:modified>
  <cp:revision>2</cp:revision>
  <dc:subject/>
  <dc:title>Computers 101</dc:title>
</cp:coreProperties>
</file>