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731-3D8C-4977-9D95-0EAC247B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CF08-7A83-49B1-9B74-5688DE80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3F9-964C-40CC-8D92-7401F68F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7A59-F045-4666-8280-46DF81B6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71B-F7EC-43B1-8E1D-9006AA3D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52C8-F5D6-4789-87C7-173D95FB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A1FE-620E-4D41-A05C-DB4FF543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F4FE-28C9-4280-8A0B-47C340A8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981-CDAE-415D-AEFF-DFF2DDFB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14CB-1CDF-43B3-96A9-8E81B996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6A3C-A5F5-4909-A8F9-49D3972F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5D9-0270-4C96-A9B0-CFE5A1D6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54CBB-9FF7-42B8-BF32-5E168B50378F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C2C3A-7A8F-467D-9C02-885DB65173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ventors.about.com/library/blcoindex.htm" TargetMode="External"/><Relationship Id="rId2" Type="http://schemas.openxmlformats.org/officeDocument/2006/relationships/hyperlink" Target="http://www.factmonster.com/ipka/A0193167.html" TargetMode="External"/><Relationship Id="rId3" Type="http://schemas.openxmlformats.org/officeDocument/2006/relationships/hyperlink" Target="http://www.fourmilab.ch/babbage/" TargetMode="External"/><Relationship Id="rId4" Type="http://schemas.openxmlformats.org/officeDocument/2006/relationships/hyperlink" Target="http://www.columbia.edu/acis/history/hollerith.html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puters 10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Trav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i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crocomputer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l’s founder, Robert Noyce, chartered Ted Hoff’s Applications Research Department in 1969, to find new applications for silicon technolog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nary Syst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it-A binary digit is called a bit. Usually expressed as 0 and 1 the two numbers of the binary numbering system. A bit is the smallest unit of information a computer can us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te-A group of 8 bits are in a byte. With 8 bits there exists 256 possible denary combinations. Large numbers of bytes can be expressed by kilobyte and megabyte.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19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nventors.about.com/library/blcoindex.htm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actmonster.com/ipka/A0193167.htm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fourmilab.ch/babbage/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columbia.edu/acis/history/hollerith.html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seas.upenn.edu/about-seas/eniac/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webopedia.com/TERM/P/program.htm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experiencefestival.com/transistor_-_advantages_of_transistors_over_vacuum_tube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xnumber.com/xnumber/Microcomputer_invention.htm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tutorials4u.com/c/ascii.htm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Compu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nted by Konrad Zuse in 193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d Z1 compu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4a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bug”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1878 Thomas Edison coined the term “bug” and “debugging” when working with his inven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net Fa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ternet began in 1969 by ARP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was designed for research, education, and government organizati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bbage’s Analytical Eng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mechanical digital computer which, viewed with the benefit of a century and a half's hindsight, anticipated virtually every aspect of present-day compute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ulating Machine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was invented for or their ability to count combined facts. These machines reduced a ten-year job to three month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IAC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general-purpose electronic compu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ilt at The Moore School of Electrical Engineering, now part of the School of Engineering and Applied Scien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3735"/>
            </a:gs>
            <a:gs pos="100000">
              <a:srgbClr val="00246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organized list of instructions that, when executed causes the computer to behave in a predetermined mann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enefits of using a Transistor over Vacuum Tub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aller siz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co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possible operating voltag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eration without a warm up peri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1:38:18Z</dcterms:created>
  <dc:creator>jared gallier</dc:creator>
  <dc:description/>
  <dc:language>en-US</dc:language>
  <cp:lastModifiedBy>HJ</cp:lastModifiedBy>
  <dcterms:modified xsi:type="dcterms:W3CDTF">2010-09-02T15:02:40Z</dcterms:modified>
  <cp:revision>2</cp:revision>
  <dc:subject/>
  <dc:title>Computers 101</dc:title>
</cp:coreProperties>
</file>