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6957-55E9-42A9-992E-4FDAC9B06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8081-63EA-4CA5-8DA3-F6F9BBF82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009E-34B7-4545-B950-289E3685F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F356-2C83-48DC-8526-18F750D92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8F36-3C0F-4A5E-8142-85F229C0C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1B75-6156-4CE0-8C65-78FC50F30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C755-14C4-4ED1-B1B1-375911CF2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9EFF-DF0C-4483-A072-AB216A569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4857-008A-42C7-8D9D-58D7FF496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C6FC-17DA-4D18-9513-BB365BC8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D960-052E-4086-ADD3-11AAF64C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9B72-2283-4433-86D0-F5B2533C5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66E3D4-AE46-4073-ADE9-F14ED4EAA675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5C0D39-41FF-4C83-AA5D-A21EC869D63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ventors.about.com/library/blcoindex.htm" TargetMode="External"/><Relationship Id="rId2" Type="http://schemas.openxmlformats.org/officeDocument/2006/relationships/hyperlink" Target="http://www.factmonster.com/ipka/A0193167.html" TargetMode="External"/><Relationship Id="rId3" Type="http://schemas.openxmlformats.org/officeDocument/2006/relationships/hyperlink" Target="http://www.fourmilab.ch/babbage/" TargetMode="External"/><Relationship Id="rId4" Type="http://schemas.openxmlformats.org/officeDocument/2006/relationships/hyperlink" Target="http://www.columbia.edu/acis/history/hollerith.html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mputers 10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y: Travi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perio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crocomputer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l’s founder, Robert Noyce, chartered Ted Hoff’s Applications Research Department in 1969, to find new applications for silicon technology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inary Syste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it-A binary digit is called a bit. Usually expressed as 0 and 1 the two numbers of the binary numbering system. A bit is the smallest unit of information a computer can us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yte-A group of 8 bits are in a byte. With 8 bits there exists 256 possible denary combinations. Large numbers of bytes can be expressed by kilobyte and megabyte.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19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esourc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inventors.about.com/library/blcoindex.htm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factmonster.com/ipka/A0193167.htm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fourmilab.ch/babbage/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columbia.edu/acis/history/hollerith.html</a:t>
            </a:r>
            <a:r>
              <a:rPr b="0" lang="en-US" sz="2700" spc="-1" strike="noStrike" u="sng">
                <a:solidFill>
                  <a:srgbClr val="ffffff"/>
                </a:solidFill>
                <a:uFillTx/>
                <a:latin typeface="Calibri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http://www.seas.upenn.edu/about-seas/eniac/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http://www.webopedia.com/TERM/P/program.htm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http://www.experiencefestival.com/transistor_-_advantages_of_transistors_over_vacuum_tubes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http://www.xnumber.com/xnumber/Microcomputer_invention.htm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http://www.tutorials4u.com/c/ascii.htm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rst Comput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vented by Konrad Zuse in 1936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med Z1 comput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4a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bug”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 1878 Thomas Edison coined the term “bug” and “debugging” when working with his inventi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ac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ternet Fac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Internet began in 1969 by ARP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t was designed for research, education, and government organization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abbage’s Analytical Engin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mechanical digital computer which, viewed with the benefit of a century and a half's hindsight, anticipated virtually every aspect of present-day computer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bulating Machine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was invented for or their ability to count combined facts. These machines reduced a ten-year job to three month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NIAC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first general-purpose electronic computer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uilt at The Moore School of Electrical Engineering, now part of the School of Engineering and Applied Scienc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3735"/>
            </a:gs>
            <a:gs pos="100000">
              <a:srgbClr val="00246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ogra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 organized list of instructions that, when executed causes the computer to behave in a predetermined manner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Benefits of using a Transistor over Vacuum Tub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maller siz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wer cos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wer possible operating voltag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peration without a warm up perio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21:38:18Z</dcterms:created>
  <dc:creator>jared gallier</dc:creator>
  <dc:description/>
  <dc:language>en-US</dc:language>
  <cp:lastModifiedBy>HJ</cp:lastModifiedBy>
  <dcterms:modified xsi:type="dcterms:W3CDTF">2010-09-02T15:02:40Z</dcterms:modified>
  <cp:revision>2</cp:revision>
  <dc:subject/>
  <dc:title>Computers 101</dc:title>
</cp:coreProperties>
</file>