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980-0665-47EE-AAA9-6C8056C0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A67-0683-4A1B-8D8E-DD9D2289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BB4-B82E-4EC1-BF8F-C46F4AD5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FC4-7402-4C14-A418-3F1CF601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3C83-6559-4F58-B859-8ECDAFE2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BC9-7645-462E-8F22-8E34AB39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F13-732D-436F-8BAC-5181E12B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71D8-8CBD-48F4-AF38-FF9A0F5B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15FF-D9E0-4C4C-91E7-630C6755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DB9-F070-4954-A8B5-E9C8283A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386-5BCB-42C3-A46E-B1C6ADF5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B932-4ADF-419C-AFA4-F449FBE8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C9E6B-1532-4F52-A8CF-C30BFA4CB42D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87A4F-D086-4E72-8A64-D7B0D2BE10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ventors.about.com/library/blcoindex.htm" TargetMode="External"/><Relationship Id="rId2" Type="http://schemas.openxmlformats.org/officeDocument/2006/relationships/hyperlink" Target="http://www.factmonster.com/ipka/A0193167.html" TargetMode="External"/><Relationship Id="rId3" Type="http://schemas.openxmlformats.org/officeDocument/2006/relationships/hyperlink" Target="http://www.fourmilab.ch/babbage/" TargetMode="External"/><Relationship Id="rId4" Type="http://schemas.openxmlformats.org/officeDocument/2006/relationships/hyperlink" Target="http://www.columbia.edu/acis/history/hollerith.html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puters 10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Trav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i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crocomputer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l’s founder, Robert Noyce, chartered Ted Hoff’s Applications Research Department in 1969, to find new applications for silicon technolog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nary Syst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t-A binary digit is called a bit. Usually expressed as 0 and 1 the two numbers of the binary numbering system. A bit is the smallest unit of information a computer can us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te-A group of 8 bits are in a byte. With 8 bits there exists 256 possible denary combinations. Large numbers of bytes can be expressed by kilobyte and megabyte.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19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nventors.about.com/library/blcoindex.ht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actmonster.com/ipka/A0193167.htm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fourmilab.ch/babbage/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columbia.edu/acis/history/hollerith.html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seas.upenn.edu/about-seas/eniac/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webopedia.com/TERM/P/program.htm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experiencefestival.com/transistor_-_advantages_of_transistors_over_vacuum_tube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xnumber.com/xnumber/Microcomputer_invention.ht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tutorials4u.com/c/ascii.ht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Compu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nted by Konrad Zuse in 193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d Z1 compu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4a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bug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1878 Thomas Edison coined the term “bug” and “debugging” when working with his inven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net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ternet began in 1969 by ARP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was designed for research, education, and government organizati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bbage’s Analytical Eng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mechanical digital computer which, viewed with the benefit of a century and a half's hindsight, anticipated virtually every aspect of present-day comput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ulating Machin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as invented for or their ability to count combined facts. These machines reduced a ten-year job to three month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IA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general-purpose electronic compu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ilt at The Moore School of Electrical Engineering, now part of the School of Engineering and Applied Scien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00246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organized list of instructions that, when executed causes the computer to behave in a predetermined mann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enefits of using a Transistor over Vacuum Tub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er siz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c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possible operating volt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eration without a warm up peri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1:38:18Z</dcterms:created>
  <dc:creator>jared gallier</dc:creator>
  <dc:description/>
  <dc:language>en-US</dc:language>
  <cp:lastModifiedBy>HJ</cp:lastModifiedBy>
  <dcterms:modified xsi:type="dcterms:W3CDTF">2010-09-02T15:02:40Z</dcterms:modified>
  <cp:revision>2</cp:revision>
  <dc:subject/>
  <dc:title>Computers 101</dc:title>
</cp:coreProperties>
</file>